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29D-E13A-4AA6-A8D9-B96C6AC5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7BFB-054F-4129-B19F-A060E1FB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001-60CF-4796-893F-91FECDF9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AA9A-EC3A-4D49-AD2A-F22FC6BA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137-6A4D-4C5D-891B-5980C389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655-E9A4-4735-8E76-12A1847E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3DF-AA6C-44C4-9ED4-5B736BAC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B4E-4FD8-4DF7-9FA4-C0D185B8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21C4-A9E5-439E-886F-D5391CF2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7CF2-59B1-4EFA-9536-591C08D3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A53F-1B04-491B-A787-366A9751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7DD-AA25-4623-BF42-CAB0B741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6EC8-1BD3-460A-B82D-CD9DFE850BD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Daniela.luskova@mpsv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407e"/>
                </a:solidFill>
                <a:latin typeface="Arial"/>
              </a:rPr>
              <a:t>Plánované změny v oblasti vzdělávání v sociálních službách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73771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MPSV</a:t>
            </a:r>
            <a:br>
              <a:rPr sz="2400"/>
            </a:b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Daniela Lus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b6bcf"/>
                </a:solidFill>
                <a:latin typeface="Arial"/>
              </a:rPr>
              <a:t>Problémy oblasti vzdělávání v sociálních službách z pohledu MPSV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SS uznává jako další formy vzdělává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alizační vzděl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reditovaný kur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borná stá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ast na školicích ak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oká tendence vzdělavatelů k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reditaci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šech kur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Kvalifikačních kurzů pouze cca 6,4% ze všech ročně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Šipka doprava 5" descr=""/>
          <p:cNvPicPr/>
          <p:nvPr/>
        </p:nvPicPr>
        <p:blipFill>
          <a:blip r:embed="rId1"/>
          <a:stretch/>
        </p:blipFill>
        <p:spPr>
          <a:xfrm>
            <a:off x="774720" y="4254480"/>
            <a:ext cx="108432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b6bcf"/>
                </a:solidFill>
                <a:latin typeface="Arial"/>
              </a:rPr>
              <a:t>Problémy oblasti vzdělávání v sociálních službách z pohledu MPSV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ho žádostí o akredi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zdlouhavý akreditační p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minimální kontrola vzdělavat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ormální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bsence standardu kvality obsahu kur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rovázanost s dalšími existujícími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Šipka doprava 5" descr=""/>
          <p:cNvPicPr/>
          <p:nvPr/>
        </p:nvPicPr>
        <p:blipFill>
          <a:blip r:embed="rId1"/>
          <a:stretch/>
        </p:blipFill>
        <p:spPr>
          <a:xfrm>
            <a:off x="1457280" y="2225520"/>
            <a:ext cx="1084320" cy="596880"/>
          </a:xfrm>
          <a:prstGeom prst="rect">
            <a:avLst/>
          </a:prstGeom>
          <a:ln w="0">
            <a:noFill/>
          </a:ln>
        </p:spPr>
      </p:pic>
      <p:pic>
        <p:nvPicPr>
          <p:cNvPr id="72" name="Šipka doprava 4" descr=""/>
          <p:cNvPicPr/>
          <p:nvPr/>
        </p:nvPicPr>
        <p:blipFill>
          <a:blip r:embed="rId2"/>
          <a:stretch/>
        </p:blipFill>
        <p:spPr>
          <a:xfrm>
            <a:off x="1457280" y="2840040"/>
            <a:ext cx="108432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b6bcf"/>
                </a:solidFill>
                <a:latin typeface="Arial"/>
              </a:rPr>
              <a:t>Řešení a změn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jekt „Systém akreditací“ FD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vize metodik a postup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lýza a přehled kur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prava kvalifikačního kurz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y pro zvýšení kvality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b6bcf"/>
                </a:solidFill>
                <a:latin typeface="Arial"/>
              </a:rPr>
              <a:t>Úvahy vedoucí ke změnám od 1.1.20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valifikační kurz pracovníka v sociálních služb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časové dota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rzy základní a specializační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vize tematických okruhů v reflexi na současné tren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poměru povinné praxe a teori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b6bcf"/>
                </a:solidFill>
                <a:latin typeface="Arial"/>
              </a:rPr>
              <a:t>Úvahy vedoucí ke změnám od 1.1.20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valifikační kurz pracovníka v sociálních služb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pravidel pro prax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kompetencí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dardizace zkouše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běžné pravidelné přezkušování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editní systé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b6bcf"/>
                </a:solidFill>
                <a:latin typeface="Arial"/>
              </a:rPr>
              <a:t>Úvahy vedoucí ke změnám od 1.1.20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zvolnit povinných 24 hodin na plnění 72 hodin v průběhu 3 le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 kvalitnějších a hlubších kur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 přípravy na přezkou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Šipka doprava 3" descr=""/>
          <p:cNvPicPr/>
          <p:nvPr/>
        </p:nvPicPr>
        <p:blipFill>
          <a:blip r:embed="rId1"/>
          <a:stretch/>
        </p:blipFill>
        <p:spPr>
          <a:xfrm>
            <a:off x="1066680" y="3255840"/>
            <a:ext cx="1090800" cy="590760"/>
          </a:xfrm>
          <a:prstGeom prst="rect">
            <a:avLst/>
          </a:prstGeom>
          <a:ln w="0">
            <a:noFill/>
          </a:ln>
        </p:spPr>
      </p:pic>
      <p:pic>
        <p:nvPicPr>
          <p:cNvPr id="82" name="Šipka doprava 4" descr=""/>
          <p:cNvPicPr/>
          <p:nvPr/>
        </p:nvPicPr>
        <p:blipFill>
          <a:blip r:embed="rId2"/>
          <a:stretch/>
        </p:blipFill>
        <p:spPr>
          <a:xfrm>
            <a:off x="993600" y="4260960"/>
            <a:ext cx="10843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b6bcf"/>
                </a:solidFill>
                <a:latin typeface="Arial"/>
              </a:rPr>
              <a:t>Závěrečná poznámka ke kompetencím pracovník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jmem MPSV je vytvořit podmínky poskytovatelům tak, aby individuální plánování průběhu služby (případový proces) dělali sociální pracovní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b6bcf"/>
                </a:solidFill>
                <a:latin typeface="Arial"/>
              </a:rPr>
              <a:t>Úvahy vedoucí ke změnám od 1.1.20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lší informace o plánovaných výstupech projektu v následujícím vystoupení FD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600" spc="-1" strike="noStrike">
              <a:solidFill>
                <a:srgbClr val="6b6bc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niela Lus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niela.luskova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b6bcf"/>
                </a:solidFill>
                <a:latin typeface="Arial"/>
              </a:rPr>
              <a:t>Aktuální situace v oboru sociální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 538 poskytovatelů v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 518  registrovaných druhů služeb v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1.4.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ca 60% nákladů služeb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náklady person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valifikace a kompetence pracovníků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základní pilíř sociální služ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Šipka doprava 1" descr=""/>
          <p:cNvPicPr/>
          <p:nvPr/>
        </p:nvPicPr>
        <p:blipFill>
          <a:blip r:embed="rId1"/>
          <a:stretch/>
        </p:blipFill>
        <p:spPr>
          <a:xfrm>
            <a:off x="1706400" y="3859200"/>
            <a:ext cx="1092240" cy="596880"/>
          </a:xfrm>
          <a:prstGeom prst="rect">
            <a:avLst/>
          </a:prstGeom>
          <a:ln w="0">
            <a:noFill/>
          </a:ln>
        </p:spPr>
      </p:pic>
      <p:pic>
        <p:nvPicPr>
          <p:cNvPr id="47" name="Šipka doprava 4" descr=""/>
          <p:cNvPicPr/>
          <p:nvPr/>
        </p:nvPicPr>
        <p:blipFill>
          <a:blip r:embed="rId2"/>
          <a:stretch/>
        </p:blipFill>
        <p:spPr>
          <a:xfrm>
            <a:off x="1762200" y="5022720"/>
            <a:ext cx="109044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b6bcf"/>
                </a:solidFill>
                <a:latin typeface="Arial"/>
              </a:rPr>
              <a:t>Novela ZSS </a:t>
            </a:r>
            <a:br>
              <a:rPr sz="4400"/>
            </a:br>
            <a:r>
              <a:rPr b="1" lang="cs-CZ" sz="4400" spc="-1" strike="noStrike">
                <a:solidFill>
                  <a:srgbClr val="6b6bcf"/>
                </a:solidFill>
                <a:latin typeface="Arial"/>
              </a:rPr>
              <a:t>v poslanecké sněmovn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 započítat účast na odborné konferenci v limitu max.8 hodin ročně do dalšího povinného vzdělává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rušení akreditace vzdělávací institu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dbyteč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neuží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1.1.2014 ???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Šipka doprava 6" descr=""/>
          <p:cNvPicPr/>
          <p:nvPr/>
        </p:nvPicPr>
        <p:blipFill>
          <a:blip r:embed="rId1"/>
          <a:stretch/>
        </p:blipFill>
        <p:spPr>
          <a:xfrm>
            <a:off x="3511440" y="5486400"/>
            <a:ext cx="10843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b6bcf"/>
                </a:solidFill>
                <a:latin typeface="Arial"/>
              </a:rPr>
              <a:t>Novela ZSS </a:t>
            </a:r>
            <a:br>
              <a:rPr sz="4400"/>
            </a:br>
            <a:r>
              <a:rPr b="1" lang="cs-CZ" sz="4400" spc="-1" strike="noStrike">
                <a:solidFill>
                  <a:srgbClr val="6b6bcf"/>
                </a:solidFill>
                <a:latin typeface="Arial"/>
              </a:rPr>
              <a:t>v poslanecké sněmovn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á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Hospice jako  zařízení odborného sociálního poraden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Činnost osobní hygieny do chráněných byd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měna poskytování služby, která je předmětem rozhodnutí, je možná až po vydání nového rozhodnutí ( ostatní jen oznámení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b6bcf"/>
                </a:solidFill>
                <a:latin typeface="Arial"/>
              </a:rPr>
              <a:t>Novela ZSS </a:t>
            </a:r>
            <a:br>
              <a:rPr sz="4400"/>
            </a:br>
            <a:r>
              <a:rPr b="1" lang="cs-CZ" sz="4400" spc="-1" strike="noStrike">
                <a:solidFill>
                  <a:srgbClr val="6b6bcf"/>
                </a:solidFill>
                <a:latin typeface="Arial"/>
              </a:rPr>
              <a:t>v poslanecké sněmovn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ci je možné zrušit jen u některé ze služeb poskytovatele ( ne celého poskytovate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přísnění asistenta sociální pé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skytování pomoci osob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 klienta neschopného podpisu podpis O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smí jím být zaměstnance ubytovacího nebo stravovacího zařízení, který klientovi poskytuje služby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 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  <a:ea typeface="Arial"/>
              </a:rPr>
              <a:t>NEPROŠ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Šipka doprava 3" descr=""/>
          <p:cNvPicPr/>
          <p:nvPr/>
        </p:nvPicPr>
        <p:blipFill>
          <a:blip r:embed="rId1"/>
          <a:stretch/>
        </p:blipFill>
        <p:spPr>
          <a:xfrm>
            <a:off x="4011480" y="5419800"/>
            <a:ext cx="82872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b6bcf"/>
                </a:solidFill>
                <a:latin typeface="Arial"/>
              </a:rPr>
              <a:t>Novela ZSS </a:t>
            </a:r>
            <a:br>
              <a:rPr sz="4400"/>
            </a:br>
            <a:r>
              <a:rPr b="1" lang="cs-CZ" sz="4400" spc="-1" strike="noStrike">
                <a:solidFill>
                  <a:srgbClr val="6b6bcf"/>
                </a:solidFill>
                <a:latin typeface="Arial"/>
              </a:rPr>
              <a:t>v poslanecké sněmovn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ykazování opatření omezující pohyb 1x ročně ve výkaz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vinnost poskytovatele sdělit krajskému úřadu zobecněné údaje o služb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mlouva s klientem musí povinně obsahovat i způsob vyúčt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b6bcf"/>
                </a:solidFill>
                <a:latin typeface="Arial"/>
              </a:rPr>
              <a:t>Novela ZSS </a:t>
            </a:r>
            <a:br>
              <a:rPr sz="4400"/>
            </a:br>
            <a:r>
              <a:rPr b="1" lang="cs-CZ" sz="4400" spc="-1" strike="noStrike">
                <a:solidFill>
                  <a:srgbClr val="6b6bcf"/>
                </a:solidFill>
                <a:latin typeface="Arial"/>
              </a:rPr>
              <a:t>v poslanecké sněmovn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§101 ( = dotace z MPSV přes souhrnnou žádost kraje) účinný do  31.12.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§101a ( = dotaze z kraje) účinný od 1.7.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b6bcf"/>
                </a:solidFill>
                <a:latin typeface="Arial"/>
              </a:rPr>
              <a:t>Četné dotazy a požadavky poskytovate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dloužíte přechodné období pro získání kvalifik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Zmírníte požadavky na akreditace kurzů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Zrušíte povinnost dalšího vzdělává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8000" spc="-1" strike="noStrike">
                <a:solidFill>
                  <a:srgbClr val="ff0000"/>
                </a:solidFill>
                <a:latin typeface="Arial"/>
              </a:rPr>
              <a:t>????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Šipka doprava 3" descr=""/>
          <p:cNvPicPr/>
          <p:nvPr/>
        </p:nvPicPr>
        <p:blipFill>
          <a:blip r:embed="rId1"/>
          <a:stretch/>
        </p:blipFill>
        <p:spPr>
          <a:xfrm>
            <a:off x="2286000" y="4834080"/>
            <a:ext cx="108576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b6bcf"/>
                </a:solidFill>
                <a:latin typeface="Arial"/>
              </a:rPr>
              <a:t>Problémy oblasti vzdělávání v sociálních službách z pohledu MPSV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Graf 3" descr=""/>
          <p:cNvPicPr/>
          <p:nvPr/>
        </p:nvPicPr>
        <p:blipFill>
          <a:blip r:embed="rId1"/>
          <a:stretch/>
        </p:blipFill>
        <p:spPr>
          <a:xfrm>
            <a:off x="704880" y="1649520"/>
            <a:ext cx="795024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usková Daniela (MPSV)</cp:lastModifiedBy>
  <cp:lastPrinted>2013-06-25T09:59:47Z</cp:lastPrinted>
  <dcterms:modified xsi:type="dcterms:W3CDTF">2013-06-25T10:06:09Z</dcterms:modified>
  <cp:revision>44</cp:revision>
  <dc:subject/>
  <dc:title>Snímek 1</dc:title>
</cp:coreProperties>
</file>